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CF6F-AA95-4E8B-AB7C-0420A73E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48FF-A73A-411C-8F40-B6389D1A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7833-A8F6-4D69-8FF9-ACED6671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D521-7452-4611-BC77-CC5F724C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67ED-9621-4B7F-A32C-29E56761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9FC3-6C36-412F-9BB2-D7DD30F9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0184-95DE-40C7-88C3-94CA7757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A943-0553-4B52-999D-ACDE5BF4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6E04-0F7C-4160-9B2B-168CA6E9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AFF7-4D4A-4884-A56C-3026B6D8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AFDE-7C5A-47D5-B77A-DE61BD52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CF81-76C4-4637-84D7-7DEB468D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496B-6E23-4390-A7F2-957FB7F6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79E6-E9AA-4D50-90C4-8CAB93A3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DADD-9B90-4B8D-A4FB-D996626C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32AE-A196-4EBB-86CF-C105D323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F434-5155-4210-A029-3D160C2C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D9BF-4A1C-4AC5-B919-FADCBE02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B1AA-6D67-4200-9215-4BE6631C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474E-9220-4767-A18F-675439CF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5095-5860-43FC-887A-E84CF5DC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8032-42FC-4CA2-AC56-ACA3C243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6E86-D3AC-4BCF-9016-00FBE3BE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E20C-3439-42E5-98DD-18EFA4E9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2CDA-CA68-46F8-81C6-E776ACD5C2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9F58F-C356-4DEB-8FF1-195CADC7BC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clusion in the Public Sch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ittney Sm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stant Prin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neola Middle Sch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892600" y="1600200"/>
            <a:ext cx="3203280" cy="2873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tion Approach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signal is needed to divide class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ch teacher is presenting a different portion of content material to a different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 the signal, the groups swi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arge Group – Small Group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ither teacher can take either role (one leads the small group and one the larg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se groups could be divided homogeneously and one could leave the ro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s may be beneficial if the content needs many adaptations or accommodations to meet the needs of the students with learning disa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ag – Team Teach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approach needs ample planning in order to be success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s cooperation and teamwork within th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co-teacher will take over the lesson at different ti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voices are heard throughout the les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Roles and Responsibilities in </a:t>
            </a: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o-Teaching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666880" y="2819520"/>
            <a:ext cx="3813120" cy="3495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Responsibilities of Inclusion Team Memb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an Curricul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apt Instr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liver Instr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sess Student Prog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ade / Evalu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eep Rec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ent Commun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e / Adapt Materi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velop Instructional Strate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641240"/>
            <a:ext cx="4114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ilitate Test Mod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-Teach / Reinforce Less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 Emotional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e I.E.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lement I.E.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e Behavior Modification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lement Behavior Modification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16280" y="1687680"/>
            <a:ext cx="3508200" cy="3482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200400" y="838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ent Area Specia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4419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ecial Educ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44197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aching Assistant Teacher A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nstructional Strateg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-2851" t="11701" r="12061" b="25109"/>
          <a:stretch/>
        </p:blipFill>
        <p:spPr>
          <a:xfrm>
            <a:off x="2133720" y="1600200"/>
            <a:ext cx="4937040" cy="502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clusion Classroom Strateg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urse Outline / Unit Assignment Gu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ick to a routine throughout the y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quire students to use a three-ring binder; make sure all handouts are hole-pun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stribute inclusion students evenly in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frain from confronting students in front of th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clusion Classroom Strateg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 sure teachers and TA’s have copies of test modifications (Chapter 40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duct notebook checks regula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e graphic organiz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velop an interactive study gu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sign critical vocabulary words and concepts at the beginning of a un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rite notes on board from left to r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clusion Classroom Strateg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rvey the class before erasing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e an outlin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rite homework assignments consistently in the same place or utilize a weekly assignment she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vide review guides for ex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9312" t="0" r="10830" b="34372"/>
          <a:stretch/>
        </p:blipFill>
        <p:spPr>
          <a:xfrm>
            <a:off x="1333440" y="152280"/>
            <a:ext cx="6591240" cy="6705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upport Strategies for Inclusion Classroom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730600" y="2438280"/>
            <a:ext cx="3670200" cy="3619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rrangement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operative Learning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ired Reading / Wri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duced seat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ific seating arran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ific Behavior Plan/C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2070000"/>
            <a:ext cx="3809880" cy="3597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Materials / Equipmen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ooks on ta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deos, 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ape rec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munication a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uters / lapto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lc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809880" cy="3038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urriculum Aid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y Gu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ocabulary 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in Idea Summa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riting Process A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-Written No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phic Organiz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arning Lo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ganizational A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keletal Out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ighlight Reading Mater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lti-sensory Presen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ndividualized Suppor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acilitation (communication, movement, think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ened / Modified Assign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al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en Notebook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-word, Re-phrase Instructions/Ques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icture C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ltiple Intellig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Parent Involvemen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565360" y="1600200"/>
            <a:ext cx="3301920" cy="3962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hat parents want…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ent open house mee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ent newslet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es in the student’s plan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ent handboo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ear and concise homework assig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“bag of tricks” to use at h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 to know their child’s learning style and I.E.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valuate the Inclusion Model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udent, teacher, parent questionnai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A and Math Assessments (6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7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&amp; 8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Grad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cial Studies and Science (8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grad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inued collaboration and reflective prac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15677" t="11405" r="8878" b="2588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10571" t="10531" r="10764" b="19271"/>
          <a:stretch/>
        </p:blipFill>
        <p:spPr>
          <a:xfrm>
            <a:off x="1447920" y="76320"/>
            <a:ext cx="6514920" cy="6553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ideo: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6680" y="1479600"/>
            <a:ext cx="7010640" cy="4778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Effective Practice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-Teaching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ialized support within the heterogeneous, general education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ecial education and general education teachers meet, plan, and teach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aptations in materials, methodology, presentation, and strate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nefits students with disabilities, at-risk students, and higher functioning students simultaneous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ix Examples of Cooperative Teach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ent Area Specialist – Ob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ent Area Specialist – Flo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allel Teac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ation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rge Group – Small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ag – Team Teac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ntent Area Specialist - Observer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ent Area Specialist presents material to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pecial Educator makes purposeful observations about a student or group of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riteria is determined before-hand and discussed af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oles can be rever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ontent Area Specialist – Floater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frequently used co-teaching 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ent Area teacher delivers the material while the special educator floats around the room addressing individual n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educator also clarifies directions, asks questions, and facilitates the les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les can be rever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Parallel Teach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oth teachers are presenting the material simultaneously to a group of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groups can be divided either heterogeneously or homogeneous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s allows for a smaller student to teacher ratio and more individualized att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2T22:29:11Z</dcterms:created>
  <dc:creator>Whittney Smith</dc:creator>
  <dc:description/>
  <dc:language>en-US</dc:language>
  <cp:lastModifiedBy>wsmith</cp:lastModifiedBy>
  <dcterms:modified xsi:type="dcterms:W3CDTF">2006-03-28T23:18:41Z</dcterms:modified>
  <cp:revision>14</cp:revision>
  <dc:subject/>
  <dc:title>PowerPoint Presentation</dc:title>
</cp:coreProperties>
</file>